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ACD-3D54-49BD-8DC2-CBB133B5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382-9F74-4766-B742-F08095D1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C0A-38F3-4893-A707-3C9F6147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860-9EDA-4635-92D8-015E3CF4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796-14E2-4601-AB94-E7F7B6DA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094-7A32-4929-8D65-34AF0B59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02B-E011-4221-9974-E77A0573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FC3-2607-48AF-A7EC-DF23958A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4CA-1AAF-4978-9BED-91D55E53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EC9-CB45-4EF5-A297-8CC32E2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7D6-4C86-4568-967D-6E64F099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C78-FB93-4056-96E6-55E8940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12F5-C79A-4B20-8BD2-E0B447EF1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leksadmin.ru/sites/default/files/field/image/pirotehnika.jpg" TargetMode="External"/><Relationship Id="rId2" Type="http://schemas.openxmlformats.org/officeDocument/2006/relationships/hyperlink" Target="https://fs00.infourok.ru/images/doc/242/230994/17/img6.jpg" TargetMode="External"/><Relationship Id="rId3" Type="http://schemas.openxmlformats.org/officeDocument/2006/relationships/hyperlink" Target="http://900igr.net/up/datai/127941/0012-022-.jpg" TargetMode="External"/><Relationship Id="rId4" Type="http://schemas.openxmlformats.org/officeDocument/2006/relationships/hyperlink" Target="http://dalapex.ru/images/494712_original.jpg" TargetMode="External"/><Relationship Id="rId5" Type="http://schemas.openxmlformats.org/officeDocument/2006/relationships/hyperlink" Target="https://www.clipartmax.com/png/full/407-4071650_vector-illustration-of-primary-or-elementary-school-vector-illustration-of-primary-or.png" TargetMode="External"/><Relationship Id="rId6" Type="http://schemas.openxmlformats.org/officeDocument/2006/relationships/hyperlink" Target="https://images.ua.prom.st/280041673_w640_h640_bengalskie-ogni-i.jpg" TargetMode="External"/><Relationship Id="rId7" Type="http://schemas.openxmlformats.org/officeDocument/2006/relationships/hyperlink" Target="https://img2.freepng.ru/20180425/fxe/kisspng-diwali-firecracker-fireworks-crackers-sivakasi-cli-5ae08ded1082d5.3169278215246658370676.jpg" TargetMode="External"/><Relationship Id="rId8" Type="http://schemas.openxmlformats.org/officeDocument/2006/relationships/hyperlink" Target="https://thumbs.gfycat.com/DependableFilthyArcticduck-size_restricted.gif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11280" y="5331600"/>
            <a:ext cx="8207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Шепеленко Татьяна Анатольевн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Персональный сайт: </a:t>
            </a:r>
            <a:r>
              <a:rPr b="1" lang="en-US" sz="2600" spc="-1" strike="noStrike">
                <a:solidFill>
                  <a:srgbClr val="009900"/>
                </a:solidFill>
                <a:latin typeface="Monotype Corsiva"/>
              </a:rPr>
              <a:t>www.shepelenko.ucoz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68360" y="-242640"/>
            <a:ext cx="8207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Муниципальное казённое 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Рамонская средняя общеобразовательная школа №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Рамон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Воронеж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1"/>
          <p:cNvPicPr/>
          <p:nvPr/>
        </p:nvPicPr>
        <p:blipFill>
          <a:blip r:embed="rId1"/>
          <a:stretch/>
        </p:blipFill>
        <p:spPr>
          <a:xfrm>
            <a:off x="2268360" y="177624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Соблюдай правил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7440" y="5805360"/>
            <a:ext cx="8712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не просто горят, а ещё разбрасывают искры в разные стороны. Это может вызвать по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rcRect l="0" t="0" r="0" b="8277"/>
          <a:stretch/>
        </p:blipFill>
        <p:spPr>
          <a:xfrm>
            <a:off x="888840" y="812880"/>
            <a:ext cx="7369200" cy="47307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НЕЛЬЗ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17440" y="6165720"/>
            <a:ext cx="871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сить такие изделия в карм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rcRect l="0" t="7340" r="70475" b="51122"/>
          <a:stretch/>
        </p:blipFill>
        <p:spPr>
          <a:xfrm>
            <a:off x="1981080" y="900000"/>
            <a:ext cx="5184720" cy="51166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НЕЛЬЗ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17440" y="6165720"/>
            <a:ext cx="871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ять ракеты и петарды на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rcRect l="42912" t="54495" r="17712" b="9584"/>
          <a:stretch/>
        </p:blipFill>
        <p:spPr>
          <a:xfrm>
            <a:off x="523800" y="800280"/>
            <a:ext cx="8099640" cy="51829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НЕЛЬЗ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17440" y="6165720"/>
            <a:ext cx="871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ходить ближе чем на 15м к зажжённым фейервер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rcRect l="31102" t="7340" r="30314" b="51122"/>
          <a:stretch/>
        </p:blipFill>
        <p:spPr>
          <a:xfrm>
            <a:off x="1127160" y="812880"/>
            <a:ext cx="6892920" cy="5203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НЕЛЬЗ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17440" y="6165720"/>
            <a:ext cx="871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осать петарды под 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2119320" y="981000"/>
            <a:ext cx="49086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НЕЛЬЗ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17440" y="6093000"/>
            <a:ext cx="871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жигать фитиль, держа его возл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"/>
          <p:cNvPicPr/>
          <p:nvPr/>
        </p:nvPicPr>
        <p:blipFill>
          <a:blip r:embed="rId1"/>
          <a:srcRect l="0" t="55016" r="75591" b="9063"/>
          <a:stretch/>
        </p:blipFill>
        <p:spPr>
          <a:xfrm>
            <a:off x="2195640" y="981000"/>
            <a:ext cx="4752720" cy="4905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НЕЛЬЗ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17440" y="6237360"/>
            <a:ext cx="871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пиротехнику при сильном в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rcRect l="0" t="0" r="0" b="9449"/>
          <a:stretch/>
        </p:blipFill>
        <p:spPr>
          <a:xfrm>
            <a:off x="539640" y="812880"/>
            <a:ext cx="8074080" cy="5165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0" y="115920"/>
            <a:ext cx="914400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  <a:ea typeface="Calibri"/>
              </a:rPr>
              <a:t>Использованные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://aleksadmin.ru/sites/default/files/field/image/pirotehnika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</a:rPr>
              <a:t>http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</a:rPr>
              <a:t>троицкинформ.москва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</a:rPr>
              <a:t>wp-content/uploads/2015/12/Pirotekhnika_i_bezopasnost-e145096056395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https://fs00.infourok.ru/images/doc/242/230994/17/img6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http://900igr.net/up/datai/127941/0012-022-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http://dalapex.ru/images/494712_original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https://www.clipartmax.com/png/full/407-4071650_vector-illustration-of-primary-or-elementary-school-vector-illustration-of-primary-or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6"/>
              </a:rPr>
              <a:t>https://images.ua.prom.st/280041673_w640_h640_bengalskie-ogni-i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8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7"/>
              </a:rPr>
              <a:t>https://img2.freepng.ru/20180425/fxe/kisspng-diwali-firecracker-fireworks-crackers-sivakasi-cli-5ae08ded1082d5.3169278215246658370676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9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8"/>
              </a:rPr>
              <a:t>https://thumbs.gfycat.com/DependableFilthyArcticduck-size_restricted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0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s1.1zoom.me/big3/460/358790-admin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rbsmi.ru/upload/iblock/93e/93ef46c69f95c04f5ebe4de06e303bf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://old.ds4.uokvz.ru/4.kropds.ru/wp-content/uploads/2019/01/converted_file_95ca9f58_html_28ece01b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yandex.ru/images/_crpd/lVMqh6121/3164e4d-XNU/GcMBX1Op6ry-eBplJ2sPt2skfZCBziG8R1hzBI7v5EoipkulruCwqnnkhP29zQZjTM9L5llzofWl4xDCHu8gBAmAwc0F-eqtP7zL4KUrnncpsGqFl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19890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00"/>
                </a:solidFill>
                <a:latin typeface="Monotype Corsiva"/>
                <a:ea typeface="Calibri"/>
              </a:rPr>
              <a:t>Новый год и техника безопасност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217440" y="826920"/>
            <a:ext cx="871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й год – самый весёлый и долгожданный празд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Новый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7440" y="5877000"/>
            <a:ext cx="8712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аздник не был испорчен, необходимо соблюдать правила пожарной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s://yandex.ru/images/_crpd/lVMqh6121/3164e4d-XNU/GcMBX1Op6ry-eBplJ2sPt2skfZCBziG8R1hzBI7v5EoipkulruCwqnnkhP29zQZjTM9L5llzofWl4xDCHu8gBAmAwc0F-eqtP7zL4KUrnncpsGqFlI"/>
          <p:cNvPicPr/>
          <p:nvPr/>
        </p:nvPicPr>
        <p:blipFill>
          <a:blip r:embed="rId1"/>
          <a:stretch/>
        </p:blipFill>
        <p:spPr>
          <a:xfrm>
            <a:off x="971640" y="1413000"/>
            <a:ext cx="7272360" cy="4343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Украшай ёлку прави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17440" y="5877000"/>
            <a:ext cx="8712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Ёлку нужно установить так, чтобы она не мешала свободно ходить по комнате и стояла дальше от батарей ото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971640" y="812880"/>
            <a:ext cx="6954840" cy="49370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Украшай ёлку прави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17440" y="5877000"/>
            <a:ext cx="8712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украшать ёлку легковоспламеняющимися игрушками и горящими све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1058760" y="974880"/>
            <a:ext cx="7029720" cy="46861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Украшай ёлку прави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17440" y="5877000"/>
            <a:ext cx="8712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д тем как повесить на ёлку электрическую гирлянду, её нужно обязательно включить и прове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971640" y="812880"/>
            <a:ext cx="6985080" cy="48895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Украшай ёлку прави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17440" y="5516640"/>
            <a:ext cx="87123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ы почувствовали запах жжёной изоляции либо обнаружили, что провода сильно нагреваются или плавятся, пользоваться такой гирляндой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440" y="1417680"/>
            <a:ext cx="91440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Соблюдай правил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17440" y="5516640"/>
            <a:ext cx="87123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едотвратить несчастный случай, необходимо строго соблюдать правила пользования бенгальскими огнями, фейерверками, петар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217440" y="981000"/>
            <a:ext cx="8712360" cy="42591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440" y="1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Соблюдай правил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17440" y="812880"/>
            <a:ext cx="8712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использовать пиротехнические игрушки в квартирах, на балконах, под низкими навесами и кронами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rcRect l="51575" t="25853" r="0" b="12199"/>
          <a:stretch/>
        </p:blipFill>
        <p:spPr>
          <a:xfrm>
            <a:off x="2050920" y="1844640"/>
            <a:ext cx="5042160" cy="48373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7:43:07Z</dcterms:created>
  <dc:creator>user</dc:creator>
  <dc:description/>
  <dc:language>en-US</dc:language>
  <cp:lastModifiedBy>user</cp:lastModifiedBy>
  <dcterms:modified xsi:type="dcterms:W3CDTF">2019-09-28T18:59:54Z</dcterms:modified>
  <cp:revision>142</cp:revision>
  <dc:subject/>
  <dc:title>Слайд 1</dc:title>
</cp:coreProperties>
</file>